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6AED-42BE-4A10-9849-C4F837183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F9DB-6EA4-4117-BBC6-0D030C88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D5A9-E009-4F40-93AD-57207C2F4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C9F4-7C10-430C-A206-4A7887EA8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424F-36BA-4C92-9BB1-3698D35C9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C72E4-3D96-425C-80AF-A76EEB76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6825B-050F-4689-832A-9097F783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9127A-A33F-4A58-9916-561945D9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9B9DC-A3A2-4F4C-BEFA-591F9CF2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B982-D238-46CF-8AA9-6B632AD4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EDA8-167E-491A-94E5-63948D21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8E31-8EEC-494F-8C06-D4B14F38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349B-BECD-407A-919E-98B07DB7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DF5C5-AFF3-4823-BDAF-3D09BC1B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93C1-7DAE-47D9-9CF5-13CB7B2E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2EE5-418C-40A2-8765-0710137EC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07D1-37C6-4974-9B90-0C201490C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9016-9427-44FD-B83A-33FAE401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4685-7A1A-4EEB-A4B5-8C880C9A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F2BD-13D4-4F62-B7A7-1CB5AF26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1428-EB2A-4194-BB96-EA8DF90E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0670-50C0-4214-B264-E9D04CE3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C834-21C4-406A-8566-ED112B03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0519-EEEA-4668-9415-69B6AE79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868A-B50C-4A9B-849C-186C2BA6FBE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5CA3-B631-4113-B0F1-20C563346B9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 rot="19542000"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Impact"/>
              </a:rPr>
              <a:t>Evangelizando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3" name="Picture 5" descr="Copy of Chile Union ChM Advisory 133"/>
          <p:cNvPicPr/>
          <p:nvPr/>
        </p:nvPicPr>
        <p:blipFill>
          <a:blip r:embed="rId1"/>
          <a:stretch/>
        </p:blipFill>
        <p:spPr>
          <a:xfrm>
            <a:off x="4716360" y="0"/>
            <a:ext cx="1752840" cy="1170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hildren of the world"/>
          <p:cNvPicPr/>
          <p:nvPr/>
        </p:nvPicPr>
        <p:blipFill>
          <a:blip r:embed="rId2"/>
          <a:stretch/>
        </p:blipFill>
        <p:spPr>
          <a:xfrm rot="19542000">
            <a:off x="2000160" y="3259080"/>
            <a:ext cx="5867640" cy="696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FerreyraMe\Documents\diseños PP\LOGOS_ADVENTISTAS\LOGOS_DEPTO\MINISTÉRIO_CRIANÇA\logo_Trab_esp.jpg"/>
          <p:cNvPicPr/>
          <p:nvPr/>
        </p:nvPicPr>
        <p:blipFill>
          <a:blip r:embed="rId3"/>
          <a:stretch/>
        </p:blipFill>
        <p:spPr>
          <a:xfrm>
            <a:off x="34920" y="-27000"/>
            <a:ext cx="4681440" cy="1197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7872840" y="6397560"/>
            <a:ext cx="1221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. Ferreyr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inisterio Personal - D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P-EI 00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25" name="9 - Cooperación.wmv" descr=""/>
          <p:cNvPicPr/>
          <p:nvPr/>
        </p:nvPicPr>
        <p:blipFill>
          <a:blip r:embed="rId3"/>
          <a:stretch/>
        </p:blipFill>
        <p:spPr>
          <a:xfrm>
            <a:off x="1547640" y="9079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30" name="10 - Da una Sonrisa.wmv" descr=""/>
          <p:cNvPicPr/>
          <p:nvPr/>
        </p:nvPicPr>
        <p:blipFill>
          <a:blip r:embed="rId3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3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Requisit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ener un equipo de 2 a 6 personas capacitad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Buscar un loc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lanear, organizar, preparar bien el programa par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cer una buena promoción</a:t>
            </a:r>
            <a:r>
              <a:rPr b="1" lang="es-PE" sz="3200" spc="-1" strike="noStrike">
                <a:solidFill>
                  <a:srgbClr val="0d0d0d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do visualizado o ilustrad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articipación plena y continu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mar en cuenta la regla 1 x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Variedad, novedad, agilida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étodo directo e indirecto, cambiar apropiada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Uso de los cinco sentid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7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óngale un nombre 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8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ucha ora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9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Escoger el tema central y enfatizar cada día ese te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0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Decidir la extensión del progra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1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ga un programa Cristo céntrico y               Niño céntr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 – La Clave Secreta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 – Temar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Honradez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cortesí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servicio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Abnegación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verdad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Perdón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obedienci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- Carta de Dio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Fin de sema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Este modelo lo puede usar en coordinación con la escuela e invitar a los padres de famili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Historia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Conociendo al Autor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Carta de Dios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Music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scoja un canto y sobre el maneje el temario para la seman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Trabajo en grupos…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Prepare un temario basado en el canto que acaba de escuch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11" name="LA SEMANA.mp3" descr=""/>
          <p:cNvPicPr/>
          <p:nvPr/>
        </p:nvPicPr>
        <p:blipFill>
          <a:blip r:embed="rId3"/>
          <a:stretch/>
        </p:blipFill>
        <p:spPr>
          <a:xfrm>
            <a:off x="4859280" y="234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gozo_culto_joe.mp3" descr=""/>
          <p:cNvPicPr/>
          <p:nvPr/>
        </p:nvPicPr>
        <p:blipFill>
          <a:blip r:embed="rId4"/>
          <a:stretch/>
        </p:blipFill>
        <p:spPr>
          <a:xfrm>
            <a:off x="4859280" y="285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41015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9515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entro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oe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rquesta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Ri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Jueg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frend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odelito bíblic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nto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redican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Adivinanz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arch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 fuera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salu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limpiez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Visita a un asil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606060"/>
                </a:solidFill>
                <a:latin typeface="Arial"/>
              </a:rPr>
              <a:t>La idea es que los niños participen de cualquier actividad que tenga que ver con la testificación y para que pierdan el miedo a la gente, hacerlos mas sociabl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3:46:03Z</dcterms:created>
  <dc:creator>Melchor Ferreyra</dc:creator>
  <dc:description/>
  <dc:language>en-US</dc:language>
  <cp:lastModifiedBy>Melchor Ferreyra</cp:lastModifiedBy>
  <dcterms:modified xsi:type="dcterms:W3CDTF">2012-06-30T02:56:07Z</dcterms:modified>
  <cp:revision>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51033</vt:lpwstr>
  </property>
</Properties>
</file>